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556-829B-4A46-BC8E-52A4A484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E709-EFA2-4853-A337-BF58C3B4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835-5FED-4FEE-BE3B-86B3E986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6FF-5D8A-4B28-BAEA-F529245DA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F7D5-F407-4DA4-894E-EFA2D5D9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4C49-DFE9-4F59-937B-33B16B7E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8A86-8853-48B5-BCB6-2E860DE9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763B-9396-4C81-9980-F152CD0D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3FE4-4BE6-4084-A365-8065D278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9F2C-00AB-4EE5-9B54-6E2680A3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7754-11B2-435C-86EC-B98BE22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2EC-D568-4941-B813-37D2F1B4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ED81-7599-4473-84ED-0944F011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5B12-2DF4-4C85-AF7A-8E62AD1D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D2BB-6AEF-4567-A98B-3E4CAC54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D193-BA36-49F5-93FE-E8C5474E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14E1-57BF-402A-B218-CCCB5B9C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413-DCCC-417F-8B08-F76B4025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552-6F50-4D38-9554-03EC3AFF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B59-6E57-4C19-A826-FB24799E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EAF7-9CDB-4878-9584-DAFF662E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7B6-8D1A-4340-848D-E2CB2A0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FE2-B6E1-4568-B147-1E646C87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FE1D-0B4F-4D75-AFE4-BA0D24E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35FF-4A66-4BAA-A29A-DF07C53EA9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58D4-5359-4E7B-A6AC-E2894B5386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w does the Constitution ensure that no branch of government has too much power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: Lexus Townsend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judicial have on the  executive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nch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declare executive actions unconstitu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judicial have on the legislative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nch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declare acts on congress unconstitutionall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all idea!!!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can see each branch keeps each other in che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branch can check the power of the 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keep anyone branch from gaining too much powe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three branches of Government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74800" y="2395440"/>
            <a:ext cx="7619040" cy="3656520"/>
            <a:chOff x="874800" y="2395440"/>
            <a:chExt cx="7619040" cy="3656520"/>
          </a:xfrm>
        </p:grpSpPr>
        <p:cxnSp>
          <p:nvCxnSpPr>
            <p:cNvPr id="99" name="_s18445"/>
            <p:cNvCxnSpPr>
              <a:stCxn id="100" idx="0"/>
              <a:endCxn id="101" idx="2"/>
            </p:cNvCxnSpPr>
            <p:nvPr/>
          </p:nvCxnSpPr>
          <p:spPr>
            <a:xfrm flipV="1" rot="16200000">
              <a:off x="5651280" y="2889720"/>
              <a:ext cx="731880" cy="2667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2" name="_s18444"/>
            <p:cNvCxnSpPr>
              <a:stCxn id="103" idx="0"/>
              <a:endCxn id="101" idx="2"/>
            </p:cNvCxnSpPr>
            <p:nvPr/>
          </p:nvCxnSpPr>
          <p:spPr>
            <a:xfrm flipV="1">
              <a:off x="4684320" y="3857400"/>
              <a:ext cx="2880" cy="73188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04" name="_s18443"/>
            <p:cNvCxnSpPr>
              <a:stCxn id="105" idx="0"/>
              <a:endCxn id="101" idx="2"/>
            </p:cNvCxnSpPr>
            <p:nvPr/>
          </p:nvCxnSpPr>
          <p:spPr>
            <a:xfrm flipH="1" flipV="1" rot="5400000">
              <a:off x="2984760" y="2889720"/>
              <a:ext cx="731880" cy="2667240"/>
            </a:xfrm>
            <a:prstGeom prst="bentConnector3">
              <a:avLst>
                <a:gd name="adj1" fmla="val 1564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01" name="_s18439"/>
            <p:cNvSpPr/>
            <p:nvPr/>
          </p:nvSpPr>
          <p:spPr>
            <a:xfrm>
              <a:off x="3541320" y="2395440"/>
              <a:ext cx="2285640" cy="1462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Three Branches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18440"/>
            <p:cNvSpPr/>
            <p:nvPr/>
          </p:nvSpPr>
          <p:spPr>
            <a:xfrm>
              <a:off x="874800" y="4589280"/>
              <a:ext cx="2285640" cy="1462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Executive Branch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18441"/>
            <p:cNvSpPr/>
            <p:nvPr/>
          </p:nvSpPr>
          <p:spPr>
            <a:xfrm>
              <a:off x="3541320" y="4589280"/>
              <a:ext cx="2285640" cy="1462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Legislative Branch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18442"/>
            <p:cNvSpPr/>
            <p:nvPr/>
          </p:nvSpPr>
          <p:spPr>
            <a:xfrm>
              <a:off x="6208200" y="4589280"/>
              <a:ext cx="2285640" cy="1462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Judicial Branch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gislative Bran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gr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ke law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hou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qual representation in the senate(2 per st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use of representatives (popul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nate(two votes per st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use of representatives(based on states popul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ecutive Bran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ries out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udicial bran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preme cou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if laws made by congress are constitut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ecks Executive have on the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gislative branch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propose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veto la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ell special sessions of con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otiates foreign trea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s appoin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Executive have on the Judicial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nch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oints federal jud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grant pardons to federal off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legislative have on the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xecutive branch!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override presidents v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irms executive appoin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tifies trea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declare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priates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impeach and remove presid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hecks legislative have on the judicial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nch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s lower federal cou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impeach and remove jud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propose amendments to overrule judicial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roves appointments of federal jud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3:02:59Z</dcterms:created>
  <dc:creator>DEDRA</dc:creator>
  <dc:description/>
  <dc:language>en-US</dc:language>
  <cp:lastModifiedBy>DEDRA</cp:lastModifiedBy>
  <dcterms:modified xsi:type="dcterms:W3CDTF">2008-04-26T17:49:41Z</dcterms:modified>
  <cp:revision>2</cp:revision>
  <dc:subject/>
  <dc:title>How does the Constitution ensure that no branch of government has too much power.</dc:title>
</cp:coreProperties>
</file>